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96C-2D9A-43BE-94E0-41356C2E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81F-2582-4C8C-BCEB-D7A1668D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F44-4362-4601-B8C9-76EE898B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AC9-A22B-4D32-84DD-204DA4E4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51C-AC1C-463E-92F5-4DC79CF4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094-A5A9-4B69-BC47-3F28E64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7C7-E32F-4F92-A0F2-DA86C99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73B-A187-4993-9CCD-B16D4F6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2BA-1C41-43D5-A59B-646D5602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9AE-4C4F-4979-8C62-7CF31F2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944-4E85-4781-9590-F23BC5B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F3B-A8A0-461E-960D-98EC4FA6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44D0-CCC1-487F-8145-954220541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aruffi.com/politics/leader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 2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Xander Bovi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ntions/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reation and Lei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y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caruffi.com/politics/leaders.html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28:55Z</dcterms:created>
  <dc:creator>Lionsgate</dc:creator>
  <dc:description/>
  <dc:language>en-US</dc:language>
  <cp:lastModifiedBy>bdougherty</cp:lastModifiedBy>
  <dcterms:modified xsi:type="dcterms:W3CDTF">2009-09-14T15:19:25Z</dcterms:modified>
  <cp:revision>8</cp:revision>
  <dc:subject/>
  <dc:title>Year 2000</dc:title>
</cp:coreProperties>
</file>